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701F-E372-4F7B-AB7C-6327FB733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0979-D8B2-40E2-B267-C6C92B07E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4071-9002-42E5-A507-299866CC1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A75A-B1EE-4CBA-9E19-5F787AC08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18E7-4BE9-410E-A1CE-6B2C69806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1DB1-C7B2-4511-BA9E-7B6C6E06D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5790-97BA-43C6-B83B-A272AD1CA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48F5-77F1-41C4-BDC1-67E673A0E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41A6-AD5E-44CF-B27E-AC0D2EFD3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4FD6-C715-4784-9A66-EE7579741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DF8A-D808-4CE0-80B6-5E9465ECF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1899-205D-45C3-9E43-688A3D212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5752-EC96-4BA7-B630-2879232DC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0A34-09CE-4F04-A27E-77017282E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154A-AD0C-4581-B770-21C8B7DE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A289-E9D5-43E0-8978-C80A15510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20BF-76C4-4BCC-ACBD-FB1CFC60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BE6A-86AE-4A05-B696-820C20E49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66ED-BDDD-416D-A818-6F729B46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BE13-4561-43C3-B299-190242EE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5553-5442-4074-9047-0288D9E9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9D7F-37A9-4D37-9E8E-7C3511E6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E864-2308-4480-A9CC-32340948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05CF-397C-4B1F-BD6A-49C3DEB9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8E76-C1D9-45D3-A762-4D5E3C17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A40E-159F-4CB8-96CD-2E32A060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0750-21D4-4F2D-95A0-C989FB43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DBA9-218E-4735-8BE9-185651A1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66E0-4818-48C5-ACCD-CE488A7A2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BCD9-AEF9-4FB8-B81C-31279EF95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CE5542-A5BD-401A-8FAA-CCE70FBF1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2034C7-3C9A-4E8C-9A30-406CFB8A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6844DA-A2D6-4F37-BDB9-750CB624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5220E0-ADE2-48B4-85B6-7F524523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68D82F-DB66-43C8-ADE8-5F936BAD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99A3-45A8-476B-949F-78950F9B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825056-A25B-4EA0-AEF8-DA013315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3D1EF2-4473-46DE-9E80-E07E7BFF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AFA838-557A-4921-80F5-01678544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012353-880D-477D-9D38-FEC4B512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B16745-ECE2-4F72-8A11-16267CF3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FCD458-AECD-42F7-8B3F-00C7DE752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A33310-AD84-45EF-9F53-E61EC1899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615C4-4DFF-470E-9142-6E2F0EC7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152D2-3A65-49F6-9FFD-7096A53A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6E2D0-2FF9-4480-9A53-1F0B8E24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6D83-DED5-48A7-997A-62746396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B8D94-F2D5-42A3-9136-A4197769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D026A-3DB2-4D06-9348-F0344739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20948-DBFB-4297-BCE7-1CFA54CF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88D48-C5A1-43B4-BCC1-AD7FD897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E8B2E-8BB7-4414-B130-22F186B9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9A2AB-E539-4262-8C86-373112F0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77634-2924-4161-BD11-9C20556B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46D05-67D5-4556-8A06-428E8FDEF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D5093-8531-457F-BE65-CD102BDD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4008-EDE4-4499-B01A-8B472B0D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D6B7-ED0B-4F0C-9774-FEEAE4A4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F76E-E1E1-415D-B768-290A41AC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1C57-FE2A-4E09-BC4E-C2102EAE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0967-DC26-48FA-AAC3-4C409996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BBBA-72E8-4C35-B49B-FA51CF0D88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8702-F006-44EF-A085-53084BBCC8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7EA4-7061-494C-8382-B95A9D7F07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2316-13C7-48FE-800B-AADC913CC9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hapter 8 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Entertaining Products &amp; Marketing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pecial Entertainment Event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sney on Ice, Stars on Ice, &amp; Sesame Street Show are example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ually move from place to plac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istribution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Primary Marke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– in film distribution is the target audience which is the theaters that show films in first relea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Secondary Marke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– is the target audience after the film has been in first run at theaters, and it includes foreign theaters, television, discount theaters, home rental and sales, cable tv, and airlin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arketing Film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railers – previews of upcoming movies shown before the main featur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0" name="Picture 5" descr="http://www.mclol.com/wp-content/uploads/2010/05/film-trailer.jpg"/>
          <p:cNvPicPr/>
          <p:nvPr/>
        </p:nvPicPr>
        <p:blipFill>
          <a:blip r:embed="rId1"/>
          <a:stretch/>
        </p:blipFill>
        <p:spPr>
          <a:xfrm>
            <a:off x="1752480" y="3505320"/>
            <a:ext cx="57056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ntertaining Product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0570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n be both tangible goods and intangible servic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at are some examples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oncessi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nack bars that sell refreshments such as popcorn, soda, and cand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7" name="Picture 5" descr="https://d1ij7zv8zivhs3.cloudfront.net/assets/2566945/lightbox/concession%20stand%20VENDOR.jpg?1290700425"/>
          <p:cNvPicPr/>
          <p:nvPr/>
        </p:nvPicPr>
        <p:blipFill>
          <a:blip r:embed="rId1"/>
          <a:stretch/>
        </p:blipFill>
        <p:spPr>
          <a:xfrm>
            <a:off x="2895480" y="3581280"/>
            <a:ext cx="320040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o rent or buy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bout 40% of revenue of DVDs and videos comes from the sale of DVDs, not renting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vergreen – films or products that are popular year after year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at are some examples of Evergreens?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5" descr="http://www.yourlogoresources.com/wp-content/uploads/2011/11/DVD-Video-Logo.jpg"/>
          <p:cNvPicPr/>
          <p:nvPr/>
        </p:nvPicPr>
        <p:blipFill>
          <a:blip r:embed="rId1"/>
          <a:stretch/>
        </p:blipFill>
        <p:spPr>
          <a:xfrm>
            <a:off x="2666880" y="4876920"/>
            <a:ext cx="261144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usic CDs &amp; Distribu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orldwide sales of recorded music total about $40 billion a yea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cord Clubs – are organizations in which members receive free records if they agree to purchase additional records within a certain time perio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ack Jobbers – are independent vendors who distribute, price, and control their own inventory within a stor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lectronic and Video Gam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deo and electronic games as media-based entertainment products are a $10 billion a year busines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ave become a rival of music C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bout 40% of space is devoted to video-game rental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ross-marketing video games is very comm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Books &amp; Magazin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int media – books, magazines, comics, newspapers – is one of the oldest sources of entertainment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7" name="Picture 5" descr="http://www.hcpl.net/sites/default/files/magazine_2.jpg"/>
          <p:cNvPicPr/>
          <p:nvPr/>
        </p:nvPicPr>
        <p:blipFill>
          <a:blip r:embed="rId1"/>
          <a:stretch/>
        </p:blipFill>
        <p:spPr>
          <a:xfrm>
            <a:off x="1752480" y="4016520"/>
            <a:ext cx="461016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heme Parks &amp; Water Park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ocations-based entertainment – is entertainment that includes amusement, theme, animal, and water park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mpulse Spending – buying without prior planning. Examples: food, souvenirs, and apparel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dutainment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creation based entertainment that is also educationa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useums, Zoos, &amp; Theater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2" name="Picture 5" descr="http://upload.wikimedia.org/wikipedia/commons/thumb/2/2e/San_Diego_Zoo_entrance_elephant.jpg/280px-San_Diego_Zoo_entrance_elephant.jpg"/>
          <p:cNvPicPr/>
          <p:nvPr/>
        </p:nvPicPr>
        <p:blipFill>
          <a:blip r:embed="rId1"/>
          <a:stretch/>
        </p:blipFill>
        <p:spPr>
          <a:xfrm>
            <a:off x="990720" y="4419720"/>
            <a:ext cx="2666880" cy="15238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http://upload.wikimedia.org/wikipedia/commons/3/3a/British_Museum_from_NE_2.JPG"/>
          <p:cNvPicPr/>
          <p:nvPr/>
        </p:nvPicPr>
        <p:blipFill>
          <a:blip r:embed="rId2"/>
          <a:stretch/>
        </p:blipFill>
        <p:spPr>
          <a:xfrm>
            <a:off x="4267080" y="4033800"/>
            <a:ext cx="306072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13:23:22Z</dcterms:created>
  <dc:creator>008736</dc:creator>
  <dc:description/>
  <dc:language>en-US</dc:language>
  <cp:lastModifiedBy>Windows User</cp:lastModifiedBy>
  <dcterms:modified xsi:type="dcterms:W3CDTF">2013-01-07T14:03:50Z</dcterms:modified>
  <cp:revision>6</cp:revision>
  <dc:subject/>
  <dc:title>Chapter 8 </dc:title>
</cp:coreProperties>
</file>